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D369-4BEC-453F-BDB9-329B6F03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6056-AC0D-4293-8F79-1E395CBD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ECF1-51B8-4E59-B00E-1834C385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2D1-AB0A-4206-A49E-EECF1D1F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716-2A43-457F-BC4F-EE126767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349-A511-4838-99B8-838213F8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F01-67EA-48FB-A46B-75DED41A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E5D-EA3C-4990-9A5E-34A076DA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2CB-22CA-4402-8A27-21953ED2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E7D-C5E2-4DC1-B4DB-E5A8D63B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FC5-BC08-4082-AAFF-00F50E56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7537-01AB-4229-9875-9EF837F3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9713-9677-4556-8B08-F03B7B446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:  World History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iker/Spielvog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(before Christ) – counts backwards from the birth of Ch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(anno domini) – translation – in the year of the birth of Christ = yea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ern/Christian time re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C.E. – (before the common er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E. – (common e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ame time reference as above; however, used by world histori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politically cor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end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Calendar/Gregorian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d after Pope Gregory XIII in 1582 C.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brew Calendar – Year 1 = 3760 B.C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ed by the Jewish as the date of the creation of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lamic Calendar -  Year 1 = 622 C.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y Muhammad fled Me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mes of Understand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orld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Systems - structures of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Ideas – power and m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s and History – meeting of needs/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Life and Gender Issue – class structures/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ce of Culture – High/Pop cul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 in History – spread/impact/changes to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 Role of Individuals – man makes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act of Science and Technology – inno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vironment and History – human imp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gration of People – why people mov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Perspec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see t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dd perspectives slides assig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  Draw a world map with as many continents, countries, and oceans/waterways as possi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– using map persp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Euro-centric view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ning personal and cultural persp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bi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provide examples of who you are – bring in documents that exemplify who and what you are.  Try to obtain different perspectives on your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find biases in oral and written communication and docum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:  Provide documents using Concept Attainment have students discover different elements leading to bias and persp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consider to find bi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 – ethnicity, g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coloring or influencing the auth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 – who is the work intende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5 W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ed Words – best underli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used with DBQ – Document Based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21:49:23Z</dcterms:created>
  <dc:creator>ripkensa</dc:creator>
  <dc:description/>
  <dc:language>en-US</dc:language>
  <cp:lastModifiedBy>ripkensa</cp:lastModifiedBy>
  <dcterms:modified xsi:type="dcterms:W3CDTF">2009-07-20T14:27:52Z</dcterms:modified>
  <cp:revision>7</cp:revision>
  <dc:subject/>
  <dc:title>World History</dc:title>
</cp:coreProperties>
</file>